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F9ED-796C-4233-87BA-8859D6FF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DA77-3553-4198-97FF-282AEE51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EF6B-3CEE-484F-AB00-61E2759C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53D9-76D1-4D18-85A6-2840D4F21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4681-6E32-424C-8174-83DF4BA2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ECCF-B7BF-4A9F-9AAB-F0CA82CD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DC34-9FEC-4EF0-B758-6A545ED2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F390-9B38-4149-944D-CF998BC0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F74A-EFBB-4648-B0CC-74DEAA57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F91C-8D71-4341-9F0C-FBB814FE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6110-F776-4BE4-8DA7-457817C9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0BA5-52BE-492A-B59C-60003638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0C1A-A9C7-4193-AED6-28D91417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BB5A-74CD-446F-B551-441AD6CD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A7EC-3548-4D97-B77B-62B91189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BE57-6690-44BB-A27C-FC6A9687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039A-1D58-4298-A874-988F76497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27474-C7BE-4391-8A7A-F9556ECE6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8C894-7DD5-4112-A211-62BA57CA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72096-75EF-44C8-A561-D1DF0018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57E81-B922-44EC-8FC5-936B3C8B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01EFE-DB05-4EA9-A2B5-EDDC3E71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A461-D7C2-40D5-9A37-3CFCC337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5C1F7-A894-482F-A049-DC138ED0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66D86-79F5-4F1F-8F3F-B085B9FF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6CF22-F23A-430F-B17C-0CA80841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7C008-826C-4146-95CC-D8007FCE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2CF90-DBB2-4C42-A4FA-1BE96DF1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04060-815C-4B83-A7BF-94B36182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73807-9CE2-4E95-A110-C4996737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BF43D-14E2-46A8-9C76-A28A7D8A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81A53-B1A5-4447-8A6C-A21020EB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F2131-AA79-46AE-BBE8-883FDD90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2903-9F08-42B3-998C-3D3020C1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CAD34-466A-47C6-A596-94D49F5A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779A9-733E-4364-9FB5-3E9AEE73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6F01E-DCC7-41C5-9887-682A723B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CDD98-2B2A-4641-AE6C-BAE9D4A5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ACAE3-5C77-493C-A7EA-DCD991DE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96E5D-77B0-4B48-955D-3772F181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74BD3-93D0-47DE-ABE2-394D9427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05687-96C2-44B0-AF34-B544BA6A7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8DC45-6E2D-49B5-9B01-A4F7EB02E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7F5C3-6B1E-4AAB-9976-CBE5093B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F537-3154-4D52-A056-61332788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D8759-237B-482A-88DD-402871DD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79145-C4A2-4E1C-868D-97724B5E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229CE-0035-42D3-A131-DB079352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B32A6-6FCE-4E55-A85A-0BCB787B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09900-9888-46E0-B8C8-6AEFE506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259BE-9A07-4456-B908-88B5ED8E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75F89-C2F9-45E4-823D-02D44451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DD6C4-05F3-4442-910B-3D5FDB58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C20A8-EDAA-4499-A347-C577F64B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4A335-69A8-4BDF-909D-179334022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2871-FD22-4133-BD73-A70CFD40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7DE3F-54EF-4BF2-B185-164D2E78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00CBD-A39B-474F-9A13-0026BA03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14BD8-5C5A-4B1E-9DAD-E838312C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9B343-A03A-433F-B32C-B87E4059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E590E-3016-4509-B656-04AA0CED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6895F-DFF9-43B8-8147-65B9B0B0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030F3-23D8-4C9C-BBE0-99CEBD0C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3EA4E-C9C3-4D3E-B43F-6B471E38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47E1A-E90C-4B22-A2A4-0951D79A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0EE71-03D7-4E23-A645-FAD192A1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4B95-1E87-4EE2-8C74-4C4E4029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78B0E-0F65-4967-9157-E6FBA8BC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CF89B-5054-4301-9DF2-787BD1DB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56CD1-CC50-4835-A84B-73F0BCD50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39B8-2AD7-42F6-9A4A-46A5B243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EEE7-5767-4F2D-8626-C685CE69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FF97-121C-4D84-A39F-66326C42B8D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68DF-646A-4074-A221-B11A1D7D14CA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8FBB-1E14-4686-965E-E07E12B6C4CD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27C6-1869-4B3C-AFFF-D5634BC38F7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703D-933E-4EFD-B9A5-D0AA553BDE4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187C-3DA5-4782-83AA-855B2DE7B5F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flickr.com/creativecommon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By: Brittany McDevit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4" name="The Chamber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H:\New Folder\the sitter\volum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4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7000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H:\New Folder\the sitter\phon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5000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H:\New Folder\the sitter\man laughin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288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8000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H:\New Folder\the sitter\girl on phone with operato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0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000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4" descr="police-officer-pic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93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6000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7000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H:\New Folder\the sitter\phon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5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0000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5" descr="cell_phone_cop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297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8000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5" descr="6a00e54ffe2ad38833011168a4e3b6970c-400w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9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5000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5" descr="chef_knife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pic>
        <p:nvPicPr>
          <p:cNvPr id="301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1000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          </a:t>
            </a: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THE END!!!</a:t>
            </a: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ungsuh"/>
                <a:ea typeface="Gungsuh"/>
              </a:rPr>
              <a:t>In the town of Radnor, everyone loves to go out on Friday nights. 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 Pictures found: </a:t>
            </a:r>
            <a:r>
              <a:rPr b="0" lang="en-US" sz="3200" spc="-1" strike="noStrike" u="sng">
                <a:solidFill>
                  <a:srgbClr val="168bba"/>
                </a:solidFill>
                <a:uFillTx/>
                <a:latin typeface="Corbel"/>
                <a:hlinkClick r:id="rId1"/>
              </a:rPr>
              <a:t>http://www.flickr.com/creativecommons/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usic Found:   THE CHAMBER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ttp://incompetech.com/m/c/royalty-free/index.html?feels%5B%5D=Dark&amp;feels%5B%5D=Suspenseful&amp;Search=Search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6" name="The Chamber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16504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ungsuh"/>
                <a:ea typeface="Gungsuh"/>
              </a:rPr>
              <a:t>One eerie night a young Radnor girl was babysitting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ungsuh"/>
                <a:ea typeface="Gungsuh"/>
              </a:rPr>
              <a:t>What happened that night is still talked about to this day. 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272" name="Picture 3" descr="H:\New Folder\the sitter\young coup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3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000" fill="hold"/>
                                        <p:tgtEl>
                                          <p:spTgt spid="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275" name="Picture 3" descr="H:\New Folder\the sitter\babysit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76" name="Recorded Sound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6000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H:\New Folder\the sitter\child sleepin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8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6000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3" descr="H:\New Folder\the sitter\phon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0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000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H:\New Folder\the sitter\man laughin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282" name="Recorded Sound" descr=""/>
          <p:cNvPicPr/>
          <p:nvPr/>
        </p:nvPicPr>
        <p:blipFill>
          <a:blip r:embed="rId2"/>
          <a:stretch/>
        </p:blipFill>
        <p:spPr>
          <a:xfrm>
            <a:off x="472428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6000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6:01:46Z</dcterms:created>
  <dc:creator>Student1</dc:creator>
  <dc:description/>
  <dc:language>en-US</dc:language>
  <cp:lastModifiedBy>Student1</cp:lastModifiedBy>
  <dcterms:modified xsi:type="dcterms:W3CDTF">2009-11-23T16:31:29Z</dcterms:modified>
  <cp:revision>13</cp:revision>
  <dc:subject/>
  <dc:title>The Sitter</dc:title>
</cp:coreProperties>
</file>